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A67-68C3-4F2A-93EA-513A0185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A1D-308C-4A17-9ABF-BBAC229B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920-F9AB-46AE-94B0-61CA8258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624-6CD3-4206-9A66-CDA6D01C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FB3C-A1A9-4BA1-9272-E6EC658E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E52F-2424-450E-91C0-A4428E5C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059A-3F99-4BA9-8A24-EB7500D7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8AD7-8997-4936-8A5B-58037CFE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9F7B-4B91-46D6-A6E9-B01D894F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5F30-E80A-4B3F-A564-13861263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262C-BA66-4C75-BF3A-C48EF26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BE5-68B7-4DDB-9680-D4411C60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DFE5-073C-4EFD-AACF-8F9AB019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6037-A9CF-4976-AE5B-DEAB7858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02E1-AF48-4814-A7BF-94999AF9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6175-E7F9-4ECE-A9CC-CCAC6910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44BB-EF11-4513-B13F-403349FB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425-148F-4F54-8E2E-9F134680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DB2-E78A-4B21-AF3B-BA0ED081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C0C-205C-43D0-A8A4-1668C1E4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328-46F2-46E9-BE08-55D25031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C8E-50A7-425D-BBF1-D201C31E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635-1338-4B4A-AF88-4DDF0B20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42A-0ECA-4176-BA2C-F07C5C19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23ED-573A-4273-966A-B4A42872A5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10BA-CFA5-46DC-8A56-32F04FED68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76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nch / Italian expres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prima donn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la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prima donn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first la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pot-pourri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ten p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ed fl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ant sm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pot-pourri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rotten p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ed fl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ant sm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stilett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he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ylish s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tle dag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stilett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he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ylish s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little dag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faux pas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fash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 st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mist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faux pas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fash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false st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mist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al fresc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cool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rty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al fresc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 a cool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rty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erracott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ttage of ter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ked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 pl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ête à têt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imate conver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d to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ête à têt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imate conver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head to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a capell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chap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a capell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 a chap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femme fatal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ing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dly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femme fatal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ing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eadly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ditto / dett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ditto / dett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mardi gras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 Tu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ss in M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ni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mardi gras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Fat Tu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ss in M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ni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erracott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ttage of ter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baked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 pl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déjà vu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incid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ready s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déjà vu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incid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lready s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utti frutti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a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 and s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fru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utti frutti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a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 and s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ll fru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bon voyag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tr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by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l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bon voyag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good tr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by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l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6:24:19Z</dcterms:created>
  <dc:creator>bolleke</dc:creator>
  <dc:description/>
  <dc:language>en-US</dc:language>
  <cp:lastModifiedBy>willy</cp:lastModifiedBy>
  <dcterms:modified xsi:type="dcterms:W3CDTF">2008-03-10T15:18:39Z</dcterms:modified>
  <cp:revision>9</cp:revision>
  <dc:subject/>
  <dc:title>terracotta</dc:title>
</cp:coreProperties>
</file>